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6256-08A7-4C3A-BDF5-9290207E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5A90-B6EC-44EB-9A47-C400EA6F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962-FC0B-4750-B7DE-A3FC5061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A32E-5E03-4EB9-935E-ED35D9B9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1ABE-82B7-4DCD-8778-6908D818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87B9-5593-4725-92C0-A4C35D70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9064-D197-4477-A875-5D8BAC0F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2348-F7E9-4F7D-A507-32DCFDA5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49BD-2CD5-4CC4-9E35-FE130859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559C-0F0E-494F-8526-B2216005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AE58-4BE9-44A1-A2A9-24DA17A2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D20F-C777-444F-94F8-248FD77D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483D-E449-46B7-9D28-A1C6A0AB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3321-9B99-49AE-8991-B5FEC820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C9DD-7ED0-40B8-A697-97803E77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66D6-9717-40CC-B7DB-88D71B59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92E9-FD21-4BB1-9A05-61168FDC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74F-1419-4995-81F3-07A740CD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FA5F-DE01-4127-AA9F-D7145F71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AD2D-525F-4264-A877-A2FC046E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ECF-8C19-4B65-B41D-DD3C1497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A88F-3B73-4479-BC13-294DA4CF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107-5DE7-4C4B-8EEA-CA2DB932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06C-2592-42A7-87EA-0F194C4F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8019-6DC8-45EF-90C9-366077C21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936C-9211-4F39-AE8F-B51C1FF99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Tug of War</a:t>
            </a:r>
            <a:br>
              <a:rPr sz="4100"/>
            </a:br>
            <a:r>
              <a:rPr b="0" i="1" lang="en-US" sz="1600" spc="-1" strike="noStrike">
                <a:solidFill>
                  <a:srgbClr val="336666"/>
                </a:solidFill>
                <a:latin typeface="Arial Black"/>
              </a:rPr>
              <a:t>A real-time strategy with first person action.</a:t>
            </a:r>
            <a:endParaRPr b="0" i="1" lang="en-US" sz="1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y: Earl Lamson III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la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sign each module after researching it’s librar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peculative Or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ld Module – ODE,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me Module – Lua,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phics Module – Direct3D,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put Module – DirectInput, control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nd Module – FMOD,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la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ecution Enviro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ndows X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velopment Enviro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 Studio .NET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++, Lu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ngle file executable instal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mphasis on harvesting library functional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ercise in integrating middlewa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piral model to encourage change throughout the project’s lif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ack my project progress at http://student.uaa.alaska.edu/asiel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ame Descrip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bination of a real-time strategy (RTS) and a first person shooter (FPS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layed in a 3D world on a rectangular playfield populated with trees and rock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ll a large heavy object into your goal are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wo play mod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 Mode – RTS sty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atar Mode – FPS sty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ame Descrip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ies – produce buildings, units, and upgr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yors – transport resources to fact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ret – attack enem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herers – Normal puller, fast firing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diers – Offensive weapons, weak puller, fast firing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llers –powerful puller, slow firing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ame Descrip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een – for building defensive upgrades and buil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ellow – for building puller upgrades and pu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 – for building offensive upgrades and soldi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pgrad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max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er force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r projectile lifes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firing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ser Interfac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mand Mo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n and zo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 or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new buil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upgr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it scrip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191120" y="2133720"/>
          <a:ext cx="4419360" cy="33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133720"/>
                    <a:ext cx="4419360" cy="33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ser Interfac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atar Mo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per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aw and pi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e and jum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9880" y="2068560"/>
          <a:ext cx="4648320" cy="35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068560"/>
                    <a:ext cx="464832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/O Requirement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heres, boxes, cylinders, capsules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ex lighting and col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reo samples played for game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 defined contr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la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piral Development Mod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br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3D – Graph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Input – Mouse, key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MOD – Sound, mu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DE – Physics (RBD, cold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ua - Scrip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la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33720" y="2666880"/>
          <a:ext cx="471168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666880"/>
                    <a:ext cx="47116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03:43:51Z</dcterms:created>
  <dc:creator>Earl Lamson III</dc:creator>
  <dc:description/>
  <dc:language>en-US</dc:language>
  <cp:lastModifiedBy>Earl Lamson III</cp:lastModifiedBy>
  <dcterms:modified xsi:type="dcterms:W3CDTF">2006-02-16T09:36:51Z</dcterms:modified>
  <cp:revision>3</cp:revision>
  <dc:subject/>
  <dc:title>Tug of War</dc:title>
</cp:coreProperties>
</file>